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7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3.wmf" ContentType="image/x-wmf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9.jpeg" ContentType="image/jpeg"/>
  <Override PartName="/ppt/media/image11.png" ContentType="image/png"/>
  <Override PartName="/ppt/media/image6.wmf" ContentType="image/x-wmf"/>
  <Override PartName="/ppt/media/image25.png" ContentType="image/png"/>
  <Override PartName="/ppt/media/image19.jpeg" ContentType="image/jpeg"/>
  <Override PartName="/ppt/media/image34.wmf" ContentType="image/x-wmf"/>
  <Override PartName="/ppt/media/image10.jpeg" ContentType="image/jpeg"/>
  <Override PartName="/ppt/media/image14.png" ContentType="image/png"/>
  <Override PartName="/ppt/media/image36.png" ContentType="image/png"/>
  <Override PartName="/ppt/media/image12.png" ContentType="image/png"/>
  <Override PartName="/ppt/media/image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marL="102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102600" indent="-102600" algn="ctr"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2" marL="102600" indent="-10260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3" marL="102600" indent="-102600" algn="ctr"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4" marL="102600" indent="-102600" algn="ctr"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5" marL="102600" indent="-102600" algn="ctr"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6" marL="102600" indent="-102600" algn="ctr"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56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4096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3400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2776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2776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2776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823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5416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1" marL="55440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2" marL="90144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3" marL="124812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4" marL="159444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5" marL="159444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6" marL="159444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69360" indent="-3693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689760" indent="-369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1059120" indent="-3693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428840" indent="-3693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798560" indent="-369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798560" indent="-369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798560" indent="-369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marL="102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102600" indent="-102600" algn="ctr"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2" marL="102600" indent="-10260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3" marL="102600" indent="-102600" algn="ctr"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4" marL="102600" indent="-102600" algn="ctr"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5" marL="102600" indent="-102600" algn="ctr"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6" marL="102600" indent="-102600" algn="ctr"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f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1317600" y="4040280"/>
            <a:ext cx="5256360" cy="1143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45960" y="4589640"/>
            <a:ext cx="11053800" cy="2885760"/>
          </a:xfrm>
          <a:prstGeom prst="rect">
            <a:avLst/>
          </a:prstGeom>
          <a:noFill/>
          <a:ln w="0">
            <a:noFill/>
          </a:ln>
        </p:spPr>
        <p:txBody>
          <a:bodyPr lIns="72360" rIns="4068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3 </a:t>
            </a: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ПОДХОДА КЪМ ПО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НАДЕЖДНИ ИНФОРМАЦИОННИ СИСТЕМИ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2452680" y="7967520"/>
            <a:ext cx="86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Светлин Ботев</a:t>
            </a:r>
            <a:r>
              <a:rPr b="0" lang="bg-BG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, </a:t>
            </a:r>
            <a:r>
              <a:rPr b="0" i="1" lang="bg-BG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Продуктов мениджър “Решения за сигурност”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2" name="Footer Placeholder 5"/>
          <p:cNvSpPr/>
          <p:nvPr/>
        </p:nvSpPr>
        <p:spPr>
          <a:xfrm>
            <a:off x="5054760" y="898524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5</a:t>
            </a:r>
            <a:r>
              <a:rPr b="0" lang="bg-BG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4</a:t>
            </a:r>
            <a:r>
              <a:rPr b="0" lang="bg-BG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.20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3189240" y="1450800"/>
            <a:ext cx="3652920" cy="36417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"/>
          <p:cNvSpPr/>
          <p:nvPr/>
        </p:nvSpPr>
        <p:spPr>
          <a:xfrm>
            <a:off x="5854680" y="3895560"/>
            <a:ext cx="4392720" cy="936720"/>
          </a:xfrm>
          <a:prstGeom prst="rect">
            <a:avLst/>
          </a:prstGeom>
          <a:solidFill>
            <a:srgbClr val="509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езултати и ползи за организацията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2. Внедряване на СУИС -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ISO 27001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03" name="Rounded Rectangle 7"/>
          <p:cNvGrpSpPr/>
          <p:nvPr/>
        </p:nvGrpSpPr>
        <p:grpSpPr>
          <a:xfrm>
            <a:off x="249120" y="5499000"/>
            <a:ext cx="3805200" cy="3821040"/>
            <a:chOff x="249120" y="5499000"/>
            <a:chExt cx="3805200" cy="3821040"/>
          </a:xfrm>
        </p:grpSpPr>
        <p:pic>
          <p:nvPicPr>
            <p:cNvPr id="40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49120" y="5499000"/>
              <a:ext cx="380520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38120" y="5692680"/>
              <a:ext cx="3422520" cy="34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06" name="Text Box 3"/>
          <p:cNvSpPr/>
          <p:nvPr/>
        </p:nvSpPr>
        <p:spPr>
          <a:xfrm>
            <a:off x="376200" y="5695920"/>
            <a:ext cx="35463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Напълно разработена, документирана и работеща СУИС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Набор от политики, процеси, процедури и механизми за сигурност на информацията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07" name="Rounded Rectangle 9"/>
          <p:cNvGrpSpPr/>
          <p:nvPr/>
        </p:nvGrpSpPr>
        <p:grpSpPr>
          <a:xfrm>
            <a:off x="4552920" y="5486400"/>
            <a:ext cx="3805200" cy="3822840"/>
            <a:chOff x="4552920" y="5486400"/>
            <a:chExt cx="3805200" cy="3822840"/>
          </a:xfrm>
        </p:grpSpPr>
        <p:pic>
          <p:nvPicPr>
            <p:cNvPr id="40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552920" y="5486400"/>
              <a:ext cx="38052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4743360" y="5678640"/>
              <a:ext cx="3422880" cy="34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10" name="Text Box 3"/>
          <p:cNvSpPr/>
          <p:nvPr/>
        </p:nvSpPr>
        <p:spPr>
          <a:xfrm>
            <a:off x="4681440" y="5683320"/>
            <a:ext cx="354672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Класификация на активите и точна оценка на риска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Намаляване на общия риск за организацията от пробиви по сигурността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11" name="Rounded Rectangle 11"/>
          <p:cNvGrpSpPr/>
          <p:nvPr/>
        </p:nvGrpSpPr>
        <p:grpSpPr>
          <a:xfrm>
            <a:off x="8869320" y="5499000"/>
            <a:ext cx="3803760" cy="3821040"/>
            <a:chOff x="8869320" y="5499000"/>
            <a:chExt cx="3803760" cy="3821040"/>
          </a:xfrm>
        </p:grpSpPr>
        <p:pic>
          <p:nvPicPr>
            <p:cNvPr id="41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8869320" y="5499000"/>
              <a:ext cx="380376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9061560" y="5692680"/>
              <a:ext cx="3422520" cy="34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14" name="Text Box 3"/>
          <p:cNvSpPr/>
          <p:nvPr/>
        </p:nvSpPr>
        <p:spPr>
          <a:xfrm>
            <a:off x="8999640" y="5695920"/>
            <a:ext cx="354492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добряване на качеството и надеждността на услугит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вишаване на доверието към организацията.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3. Анализ на ИТ средата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17" name="Picture 5" descr=""/>
          <p:cNvPicPr/>
          <p:nvPr/>
        </p:nvPicPr>
        <p:blipFill>
          <a:blip r:embed="rId2"/>
          <a:stretch/>
        </p:blipFill>
        <p:spPr>
          <a:xfrm>
            <a:off x="0" y="5708520"/>
            <a:ext cx="5227560" cy="4044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4552920" y="6808680"/>
            <a:ext cx="4392720" cy="1117800"/>
          </a:xfrm>
          <a:prstGeom prst="rect">
            <a:avLst/>
          </a:prstGeom>
          <a:solidFill>
            <a:srgbClr val="509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едизвикателства и проблеми пред организациите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19" name="Rounded Rectangle 7"/>
          <p:cNvGrpSpPr/>
          <p:nvPr/>
        </p:nvGrpSpPr>
        <p:grpSpPr>
          <a:xfrm>
            <a:off x="7791480" y="1579680"/>
            <a:ext cx="3809880" cy="5010120"/>
            <a:chOff x="7791480" y="1579680"/>
            <a:chExt cx="3809880" cy="5010120"/>
          </a:xfrm>
        </p:grpSpPr>
        <p:pic>
          <p:nvPicPr>
            <p:cNvPr id="420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7791480" y="1579680"/>
              <a:ext cx="380988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7983360" y="1768320"/>
              <a:ext cx="3422880" cy="46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22" name="Text Box 3"/>
          <p:cNvSpPr/>
          <p:nvPr/>
        </p:nvSpPr>
        <p:spPr>
          <a:xfrm>
            <a:off x="8045280" y="1808280"/>
            <a:ext cx="329904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Внедряване на нови услуги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ценка на текущото състояние на ИТ системите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Инвентаризация и съставяне на технически паспорти на оборудването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23" name="Rounded Rectangle 9"/>
          <p:cNvGrpSpPr/>
          <p:nvPr/>
        </p:nvGrpSpPr>
        <p:grpSpPr>
          <a:xfrm>
            <a:off x="1994040" y="1579680"/>
            <a:ext cx="3803400" cy="3608280"/>
            <a:chOff x="1994040" y="1579680"/>
            <a:chExt cx="3803400" cy="3608280"/>
          </a:xfrm>
        </p:grpSpPr>
        <p:pic>
          <p:nvPicPr>
            <p:cNvPr id="424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994040" y="1579680"/>
              <a:ext cx="3803400" cy="36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176560" y="1758960"/>
              <a:ext cx="3441600" cy="32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26" name="Text Box 3"/>
          <p:cNvSpPr/>
          <p:nvPr/>
        </p:nvSpPr>
        <p:spPr>
          <a:xfrm>
            <a:off x="2247840" y="1787400"/>
            <a:ext cx="32990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Липса на стратегически план за подобрение и развитие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Възвръщане на направените инвестиции.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3. Анализ на ИТ средата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29" name="Picture 7" descr=""/>
          <p:cNvPicPr/>
          <p:nvPr/>
        </p:nvPicPr>
        <p:blipFill>
          <a:blip r:embed="rId2"/>
          <a:stretch/>
        </p:blipFill>
        <p:spPr>
          <a:xfrm>
            <a:off x="0" y="1036800"/>
            <a:ext cx="5781600" cy="38368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3"/>
          <p:cNvSpPr/>
          <p:nvPr/>
        </p:nvSpPr>
        <p:spPr>
          <a:xfrm>
            <a:off x="3333600" y="4013280"/>
            <a:ext cx="4392720" cy="649080"/>
          </a:xfrm>
          <a:prstGeom prst="rect">
            <a:avLst/>
          </a:prstGeom>
          <a:solidFill>
            <a:srgbClr val="509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ешение и дейности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31" name="Rounded Rectangle 13"/>
          <p:cNvGrpSpPr/>
          <p:nvPr/>
        </p:nvGrpSpPr>
        <p:grpSpPr>
          <a:xfrm>
            <a:off x="8790120" y="3376440"/>
            <a:ext cx="3809880" cy="5743800"/>
            <a:chOff x="8790120" y="3376440"/>
            <a:chExt cx="3809880" cy="5743800"/>
          </a:xfrm>
        </p:grpSpPr>
        <p:pic>
          <p:nvPicPr>
            <p:cNvPr id="432" name="Rounded Rectangle 13" descr=""/>
            <p:cNvPicPr/>
            <p:nvPr/>
          </p:nvPicPr>
          <p:blipFill>
            <a:blip r:embed="rId3"/>
            <a:stretch/>
          </p:blipFill>
          <p:spPr>
            <a:xfrm>
              <a:off x="8790120" y="3376440"/>
              <a:ext cx="3809880" cy="57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983800" y="3567240"/>
              <a:ext cx="3423960" cy="53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34" name="Text Box 3"/>
          <p:cNvSpPr/>
          <p:nvPr/>
        </p:nvSpPr>
        <p:spPr>
          <a:xfrm>
            <a:off x="9045720" y="3608280"/>
            <a:ext cx="329868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дит на информационната сигурност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Анализ на непрекъснатостта на дейностите и услугит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Докладване и съставяне на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лан за поддръжка и развитие на ИТ системите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35" name="Rounded Rectangle 17"/>
          <p:cNvGrpSpPr/>
          <p:nvPr/>
        </p:nvGrpSpPr>
        <p:grpSpPr>
          <a:xfrm>
            <a:off x="444600" y="5505480"/>
            <a:ext cx="3809880" cy="3614760"/>
            <a:chOff x="444600" y="5505480"/>
            <a:chExt cx="3809880" cy="3614760"/>
          </a:xfrm>
        </p:grpSpPr>
        <p:pic>
          <p:nvPicPr>
            <p:cNvPr id="436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444600" y="5505480"/>
              <a:ext cx="380988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630360" y="5689440"/>
              <a:ext cx="3440160" cy="32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38" name="Text Box 3"/>
          <p:cNvSpPr/>
          <p:nvPr/>
        </p:nvSpPr>
        <p:spPr>
          <a:xfrm>
            <a:off x="700200" y="5718240"/>
            <a:ext cx="329868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Инвентаризиране на техниката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Анализ на капацитета на информационните и комуникационни системи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39" name="Rounded Rectangle 19"/>
          <p:cNvGrpSpPr/>
          <p:nvPr/>
        </p:nvGrpSpPr>
        <p:grpSpPr>
          <a:xfrm>
            <a:off x="4591080" y="5505480"/>
            <a:ext cx="3803760" cy="3614760"/>
            <a:chOff x="4591080" y="5505480"/>
            <a:chExt cx="3803760" cy="3614760"/>
          </a:xfrm>
        </p:grpSpPr>
        <p:pic>
          <p:nvPicPr>
            <p:cNvPr id="440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91080" y="5505480"/>
              <a:ext cx="380376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4768920" y="5689440"/>
              <a:ext cx="3441600" cy="32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42" name="Text Box 3"/>
          <p:cNvSpPr/>
          <p:nvPr/>
        </p:nvSpPr>
        <p:spPr>
          <a:xfrm>
            <a:off x="4840200" y="5718240"/>
            <a:ext cx="329904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Изготвяне на паспорти с техническите характеристики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Изготвяне на диаграми и схеми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3. Анализ на ИТ средата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3189240" y="1450800"/>
            <a:ext cx="3652920" cy="364176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"/>
          <p:cNvSpPr/>
          <p:nvPr/>
        </p:nvSpPr>
        <p:spPr>
          <a:xfrm>
            <a:off x="5854680" y="3895560"/>
            <a:ext cx="4392720" cy="936720"/>
          </a:xfrm>
          <a:prstGeom prst="rect">
            <a:avLst/>
          </a:prstGeom>
          <a:solidFill>
            <a:srgbClr val="509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езултати и ползи за организацията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47" name="Rounded Rectangle 7"/>
          <p:cNvGrpSpPr/>
          <p:nvPr/>
        </p:nvGrpSpPr>
        <p:grpSpPr>
          <a:xfrm>
            <a:off x="249120" y="5499000"/>
            <a:ext cx="3805200" cy="3821040"/>
            <a:chOff x="249120" y="5499000"/>
            <a:chExt cx="3805200" cy="3821040"/>
          </a:xfrm>
        </p:grpSpPr>
        <p:pic>
          <p:nvPicPr>
            <p:cNvPr id="44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49120" y="5499000"/>
              <a:ext cx="380520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438120" y="5692680"/>
              <a:ext cx="3422520" cy="34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50" name="Text Box 3"/>
          <p:cNvSpPr/>
          <p:nvPr/>
        </p:nvSpPr>
        <p:spPr>
          <a:xfrm>
            <a:off x="376200" y="5695920"/>
            <a:ext cx="35463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Доклад с анализ и препоръки за оптимизиране на ИТ средата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Изготвени точни диаграми и топологии: мрежова, сървърна, физическа;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51" name="Rounded Rectangle 9"/>
          <p:cNvGrpSpPr/>
          <p:nvPr/>
        </p:nvGrpSpPr>
        <p:grpSpPr>
          <a:xfrm>
            <a:off x="4552920" y="5486400"/>
            <a:ext cx="3805200" cy="3822840"/>
            <a:chOff x="4552920" y="5486400"/>
            <a:chExt cx="3805200" cy="3822840"/>
          </a:xfrm>
        </p:grpSpPr>
        <p:pic>
          <p:nvPicPr>
            <p:cNvPr id="452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552920" y="5486400"/>
              <a:ext cx="38052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4743360" y="5678640"/>
              <a:ext cx="3422880" cy="34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54" name="Text Box 3"/>
          <p:cNvSpPr/>
          <p:nvPr/>
        </p:nvSpPr>
        <p:spPr>
          <a:xfrm>
            <a:off x="4681440" y="5683320"/>
            <a:ext cx="354672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добряване на услугит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Ясна представа за развитието на ИТ средата и планиране на разходите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55" name="Rounded Rectangle 11"/>
          <p:cNvGrpSpPr/>
          <p:nvPr/>
        </p:nvGrpSpPr>
        <p:grpSpPr>
          <a:xfrm>
            <a:off x="8869320" y="5499000"/>
            <a:ext cx="3803760" cy="3821040"/>
            <a:chOff x="8869320" y="5499000"/>
            <a:chExt cx="3803760" cy="3821040"/>
          </a:xfrm>
        </p:grpSpPr>
        <p:pic>
          <p:nvPicPr>
            <p:cNvPr id="456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8869320" y="5499000"/>
              <a:ext cx="380376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9061560" y="5692680"/>
              <a:ext cx="3422520" cy="34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58" name="Text Box 3"/>
          <p:cNvSpPr/>
          <p:nvPr/>
        </p:nvSpPr>
        <p:spPr>
          <a:xfrm>
            <a:off x="8999640" y="5695920"/>
            <a:ext cx="354492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добряване на реакцията при инциденти и аварии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добряване на сигурността на даннит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Без ‘покупка на парче’.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"/>
          <p:cNvPicPr/>
          <p:nvPr/>
        </p:nvPicPr>
        <p:blipFill>
          <a:blip r:embed="rId2"/>
          <a:stretch/>
        </p:blipFill>
        <p:spPr>
          <a:xfrm>
            <a:off x="450720" y="1501920"/>
            <a:ext cx="3768840" cy="3216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7" descr=""/>
          <p:cNvPicPr/>
          <p:nvPr/>
        </p:nvPicPr>
        <p:blipFill>
          <a:blip r:embed="rId3"/>
          <a:stretch/>
        </p:blipFill>
        <p:spPr>
          <a:xfrm>
            <a:off x="466560" y="5594400"/>
            <a:ext cx="3753000" cy="38574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184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txBody>
          <a:bodyPr lIns="72360" rIns="4068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Послеслов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3" name="Lightning Bolt 14"/>
          <p:cNvSpPr/>
          <p:nvPr/>
        </p:nvSpPr>
        <p:spPr>
          <a:xfrm rot="4942800">
            <a:off x="9176040" y="1318320"/>
            <a:ext cx="1689120" cy="1871640"/>
          </a:xfrm>
          <a:prstGeom prst="lightningBol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4" name="Vertical Scroll 18"/>
          <p:cNvSpPr/>
          <p:nvPr/>
        </p:nvSpPr>
        <p:spPr>
          <a:xfrm>
            <a:off x="3645000" y="1477800"/>
            <a:ext cx="5472000" cy="5456520"/>
          </a:xfrm>
          <a:prstGeom prst="verticalScroll">
            <a:avLst>
              <a:gd name="adj" fmla="val 12500"/>
            </a:avLst>
          </a:prstGeom>
          <a:solidFill>
            <a:srgbClr val="00b050"/>
          </a:solidFill>
          <a:ln w="9360">
            <a:solidFill>
              <a:srgbClr val="003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5" name="Lightning Bolt 19"/>
          <p:cNvSpPr/>
          <p:nvPr/>
        </p:nvSpPr>
        <p:spPr>
          <a:xfrm>
            <a:off x="5045040" y="7085160"/>
            <a:ext cx="1689120" cy="1873080"/>
          </a:xfrm>
          <a:prstGeom prst="lightningBol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4562640" y="2397240"/>
            <a:ext cx="4071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Зевс, Меркурий, Аполон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Чуйте моят тъжен стон.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Пазете харда ми студен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Вирусът да се не среща с мен!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Земя и вятър, огън и море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От вируси гадни, спасете ме!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Съберете висшата си мощ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Да се труди компа ден и нощ!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Чуйте моите тъжни трели: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7" name="Vertical Scroll 23"/>
          <p:cNvSpPr/>
          <p:nvPr/>
        </p:nvSpPr>
        <p:spPr>
          <a:xfrm>
            <a:off x="7316640" y="4206960"/>
            <a:ext cx="5688000" cy="5421240"/>
          </a:xfrm>
          <a:prstGeom prst="verticalScroll">
            <a:avLst>
              <a:gd name="adj" fmla="val 12500"/>
            </a:avLst>
          </a:prstGeom>
          <a:solidFill>
            <a:srgbClr val="00b050"/>
          </a:solidFill>
          <a:ln w="9360">
            <a:solidFill>
              <a:srgbClr val="003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8236080" y="4886280"/>
            <a:ext cx="4071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Данните пазете цели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Мишокът да не се успива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Мрежата да не забива!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Принтерът да пише чисто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Мониторът да свети бистро.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Дискът да не се помайва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Че това съвсем не се изтрайва.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Луна и слънце, и вие бдете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За вируси и в Скайп следете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MS PGothic"/>
              </a:rPr>
              <a:t>От покани във Фейсбук мене спасете!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f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74880" y="1635120"/>
            <a:ext cx="11053440" cy="1014480"/>
          </a:xfrm>
          <a:prstGeom prst="rect">
            <a:avLst/>
          </a:prstGeom>
          <a:noFill/>
          <a:ln w="0">
            <a:noFill/>
          </a:ln>
        </p:spPr>
        <p:txBody>
          <a:bodyPr lIns="72360" rIns="4068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Благодаря за вниманието!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8661240" y="3220920"/>
            <a:ext cx="3818160" cy="3168720"/>
          </a:xfrm>
          <a:prstGeom prst="rect">
            <a:avLst/>
          </a:prstGeom>
          <a:ln w="0">
            <a:noFill/>
          </a:ln>
        </p:spPr>
      </p:pic>
      <p:sp>
        <p:nvSpPr>
          <p:cNvPr id="472" name="TextBox 6"/>
          <p:cNvSpPr/>
          <p:nvPr/>
        </p:nvSpPr>
        <p:spPr>
          <a:xfrm>
            <a:off x="8934480" y="4184640"/>
            <a:ext cx="354492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217"/>
                </a:solidFill>
                <a:latin typeface="Calibri"/>
                <a:ea typeface="MS PGothic"/>
              </a:rPr>
              <a:t>Светлин Ботев</a:t>
            </a:r>
            <a:r>
              <a:rPr b="1" lang="ru-RU" sz="1800" spc="-1" strike="noStrike">
                <a:solidFill>
                  <a:srgbClr val="003217"/>
                </a:solidFill>
                <a:latin typeface="Calibri"/>
                <a:ea typeface="MS PGothic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217"/>
                </a:solidFill>
                <a:latin typeface="Calibri"/>
                <a:ea typeface="MS PGothic"/>
              </a:rPr>
              <a:t>ISO 27001 Водещ Одитор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217"/>
                </a:solidFill>
                <a:latin typeface="Calibri"/>
                <a:ea typeface="MS PGothic"/>
              </a:rPr>
              <a:t>Член на ISACA, клон София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217"/>
                </a:solidFill>
                <a:latin typeface="Calibri"/>
                <a:ea typeface="MS PGothic"/>
              </a:rPr>
              <a:t>Контракс АД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217"/>
                </a:solidFill>
                <a:latin typeface="Calibri"/>
                <a:ea typeface="MS PGothic"/>
              </a:rPr>
              <a:t>тел.: 02/960 97 31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217"/>
                </a:solidFill>
                <a:latin typeface="Calibri"/>
                <a:ea typeface="MS PGothic"/>
              </a:rPr>
              <a:t>е-mail: svetlin.botev@kontrax.bg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3"/>
          <a:stretch/>
        </p:blipFill>
        <p:spPr>
          <a:xfrm>
            <a:off x="11577600" y="6389640"/>
            <a:ext cx="901800" cy="889200"/>
          </a:xfrm>
          <a:prstGeom prst="rect">
            <a:avLst/>
          </a:prstGeom>
          <a:ln w="0">
            <a:noFill/>
          </a:ln>
        </p:spPr>
      </p:pic>
      <p:sp>
        <p:nvSpPr>
          <p:cNvPr id="474" name="TextBox 5"/>
          <p:cNvSpPr/>
          <p:nvPr/>
        </p:nvSpPr>
        <p:spPr>
          <a:xfrm>
            <a:off x="8901000" y="3409920"/>
            <a:ext cx="26272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KO</a:t>
            </a:r>
            <a:r>
              <a:rPr b="1" lang="bg-BG" sz="4000" spc="-1" strike="noStrike">
                <a:solidFill>
                  <a:srgbClr val="000000"/>
                </a:solidFill>
                <a:latin typeface="Calibri"/>
                <a:ea typeface="MS PGothic"/>
              </a:rPr>
              <a:t>НТАКТИ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4.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Penetration test</a:t>
            </a: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77" name="Picture 6" descr="hacker_0.jpg"/>
          <p:cNvPicPr/>
          <p:nvPr/>
        </p:nvPicPr>
        <p:blipFill>
          <a:blip r:embed="rId2"/>
          <a:stretch/>
        </p:blipFill>
        <p:spPr>
          <a:xfrm>
            <a:off x="1461960" y="1563840"/>
            <a:ext cx="4238640" cy="3627360"/>
          </a:xfrm>
          <a:prstGeom prst="rect">
            <a:avLst/>
          </a:prstGeom>
          <a:ln w="0">
            <a:noFill/>
          </a:ln>
        </p:spPr>
      </p:pic>
      <p:grpSp>
        <p:nvGrpSpPr>
          <p:cNvPr id="478" name="Rounded Rectangle 7"/>
          <p:cNvGrpSpPr/>
          <p:nvPr/>
        </p:nvGrpSpPr>
        <p:grpSpPr>
          <a:xfrm>
            <a:off x="7448400" y="1736640"/>
            <a:ext cx="3805560" cy="7467840"/>
            <a:chOff x="7448400" y="1736640"/>
            <a:chExt cx="3805560" cy="7467840"/>
          </a:xfrm>
        </p:grpSpPr>
        <p:pic>
          <p:nvPicPr>
            <p:cNvPr id="47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7448400" y="1736640"/>
              <a:ext cx="3805560" cy="74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640640" y="1927080"/>
              <a:ext cx="3422520" cy="70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81" name="Text Box 3"/>
          <p:cNvSpPr/>
          <p:nvPr/>
        </p:nvSpPr>
        <p:spPr>
          <a:xfrm>
            <a:off x="7702560" y="1967040"/>
            <a:ext cx="32986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Симулират се методите използвани от “хакерите”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ценява се постигнатото ниво на информационна сигурност в дадено WEB приложение или система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азкриват потенциалните последствия от осъществяването на реална хакерска атака.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1222200" y="22320"/>
            <a:ext cx="6001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4.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f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4"/>
          <p:cNvSpPr/>
          <p:nvPr/>
        </p:nvSpPr>
        <p:spPr>
          <a:xfrm>
            <a:off x="974880" y="4368960"/>
            <a:ext cx="1105344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Въпроси?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GREEN-FON.jpg"/>
          <p:cNvPicPr/>
          <p:nvPr/>
        </p:nvPicPr>
        <p:blipFill>
          <a:blip r:embed="rId1"/>
          <a:stretch/>
        </p:blipFill>
        <p:spPr>
          <a:xfrm>
            <a:off x="0" y="792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0" y="988920"/>
            <a:ext cx="7331040" cy="453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3"/>
          <a:stretch/>
        </p:blipFill>
        <p:spPr>
          <a:xfrm>
            <a:off x="5349960" y="5160960"/>
            <a:ext cx="7654680" cy="45925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2184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txBody>
          <a:bodyPr lIns="72360" rIns="4068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Предисловие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4"/>
          <a:stretch/>
        </p:blipFill>
        <p:spPr>
          <a:xfrm>
            <a:off x="627120" y="7102440"/>
            <a:ext cx="5494320" cy="13683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1533600" y="7342200"/>
            <a:ext cx="4249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Сходни проблеми на ИТ специалистите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5"/>
          <a:stretch/>
        </p:blipFill>
        <p:spPr>
          <a:xfrm>
            <a:off x="6761160" y="2535120"/>
            <a:ext cx="5494320" cy="13687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7004160" y="2585880"/>
            <a:ext cx="4249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Напълно приложими за висшите учебни заведения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2"/>
          <a:stretch/>
        </p:blipFill>
        <p:spPr>
          <a:xfrm>
            <a:off x="7365960" y="2606760"/>
            <a:ext cx="3946680" cy="3946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3"/>
          <a:stretch/>
        </p:blipFill>
        <p:spPr>
          <a:xfrm>
            <a:off x="1604880" y="2587680"/>
            <a:ext cx="3853080" cy="3981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4"/>
          <a:stretch/>
        </p:blipFill>
        <p:spPr>
          <a:xfrm>
            <a:off x="816120" y="6642000"/>
            <a:ext cx="5494320" cy="13683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2184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txBody>
          <a:bodyPr lIns="72360" rIns="4068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Предисловие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974880" y="6634080"/>
            <a:ext cx="532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т къде да започнем с подобрението и оптимизирането на нашета ИТ среда? 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5"/>
          <a:stretch/>
        </p:blipFill>
        <p:spPr>
          <a:xfrm>
            <a:off x="6781680" y="6634080"/>
            <a:ext cx="5494320" cy="13683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7434360" y="6772320"/>
            <a:ext cx="424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Само едно дърво ли им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,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 или зад него стои цяла гора?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3 </a:t>
            </a: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подхода…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21" name="Picture 21" descr=""/>
          <p:cNvPicPr/>
          <p:nvPr/>
        </p:nvPicPr>
        <p:blipFill>
          <a:blip r:embed="rId2"/>
          <a:stretch/>
        </p:blipFill>
        <p:spPr>
          <a:xfrm>
            <a:off x="4005360" y="2819520"/>
            <a:ext cx="4994280" cy="3328920"/>
          </a:xfrm>
          <a:prstGeom prst="rect">
            <a:avLst/>
          </a:prstGeom>
          <a:ln w="0">
            <a:noFill/>
          </a:ln>
        </p:spPr>
      </p:pic>
      <p:sp>
        <p:nvSpPr>
          <p:cNvPr id="322" name="Rounded Rectangle 22"/>
          <p:cNvSpPr/>
          <p:nvPr/>
        </p:nvSpPr>
        <p:spPr>
          <a:xfrm>
            <a:off x="3044880" y="6275520"/>
            <a:ext cx="2303280" cy="1728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3" name="Rounded Rectangle 23"/>
          <p:cNvSpPr/>
          <p:nvPr/>
        </p:nvSpPr>
        <p:spPr>
          <a:xfrm>
            <a:off x="5595840" y="6275520"/>
            <a:ext cx="2305080" cy="1728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4" name="Rounded Rectangle 24"/>
          <p:cNvSpPr/>
          <p:nvPr/>
        </p:nvSpPr>
        <p:spPr>
          <a:xfrm>
            <a:off x="8148600" y="6275520"/>
            <a:ext cx="2303640" cy="1728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322800" y="6429240"/>
            <a:ext cx="1746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едизви-кателства и проблеми  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875200" y="6516720"/>
            <a:ext cx="174636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ешение и дейности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427960" y="6516720"/>
            <a:ext cx="174636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езултати и ползи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1. ИТ одит на инф. сигурност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30" name="Picture 9" descr=""/>
          <p:cNvPicPr/>
          <p:nvPr/>
        </p:nvPicPr>
        <p:blipFill>
          <a:blip r:embed="rId2"/>
          <a:stretch/>
        </p:blipFill>
        <p:spPr>
          <a:xfrm>
            <a:off x="7993080" y="1036800"/>
            <a:ext cx="4989600" cy="49892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8361360" y="5342040"/>
            <a:ext cx="4392720" cy="1119240"/>
          </a:xfrm>
          <a:prstGeom prst="rect">
            <a:avLst/>
          </a:prstGeom>
          <a:solidFill>
            <a:srgbClr val="509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едизвикателства и проблеми пред организациите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32" name="Rounded Rectangle 10"/>
          <p:cNvGrpSpPr/>
          <p:nvPr/>
        </p:nvGrpSpPr>
        <p:grpSpPr>
          <a:xfrm>
            <a:off x="328680" y="1706400"/>
            <a:ext cx="3805200" cy="5011920"/>
            <a:chOff x="328680" y="1706400"/>
            <a:chExt cx="3805200" cy="5011920"/>
          </a:xfrm>
        </p:grpSpPr>
        <p:pic>
          <p:nvPicPr>
            <p:cNvPr id="333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328680" y="1706400"/>
              <a:ext cx="3805200" cy="50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7680" y="1897200"/>
              <a:ext cx="3422520" cy="46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35" name="Text Box 3"/>
          <p:cNvSpPr/>
          <p:nvPr/>
        </p:nvSpPr>
        <p:spPr>
          <a:xfrm>
            <a:off x="579600" y="1936800"/>
            <a:ext cx="32986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Идентифициране на основните рисков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стигане на съответствие с добрите практики за защита на даннит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Нужда от ясна и точна оценка на постигнатата сигурност; 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36" name="Rounded Rectangle 12"/>
          <p:cNvGrpSpPr/>
          <p:nvPr/>
        </p:nvGrpSpPr>
        <p:grpSpPr>
          <a:xfrm>
            <a:off x="4449600" y="5778360"/>
            <a:ext cx="3810240" cy="3610080"/>
            <a:chOff x="4449600" y="5778360"/>
            <a:chExt cx="3810240" cy="3610080"/>
          </a:xfrm>
        </p:grpSpPr>
        <p:pic>
          <p:nvPicPr>
            <p:cNvPr id="337" name="Rounded Rectangle 12" descr=""/>
            <p:cNvPicPr/>
            <p:nvPr/>
          </p:nvPicPr>
          <p:blipFill>
            <a:blip r:embed="rId4"/>
            <a:stretch/>
          </p:blipFill>
          <p:spPr>
            <a:xfrm>
              <a:off x="4449600" y="5778360"/>
              <a:ext cx="381024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633920" y="5959440"/>
              <a:ext cx="3441600" cy="32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705200" y="5989680"/>
            <a:ext cx="329904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Фокус изцяло върху поддържането на системит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дсигуряването на ИТ активите след направени придобивания.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itaudit.jpg"/>
          <p:cNvPicPr/>
          <p:nvPr/>
        </p:nvPicPr>
        <p:blipFill>
          <a:blip r:embed="rId2"/>
          <a:stretch/>
        </p:blipFill>
        <p:spPr>
          <a:xfrm>
            <a:off x="0" y="1030320"/>
            <a:ext cx="5278320" cy="46148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1. ИТ одит на инф. сигурност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42800" y="5237280"/>
            <a:ext cx="4392720" cy="647640"/>
          </a:xfrm>
          <a:prstGeom prst="rect">
            <a:avLst/>
          </a:prstGeom>
          <a:solidFill>
            <a:srgbClr val="509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ешение и дейности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44" name="Rounded Rectangle 7"/>
          <p:cNvGrpSpPr/>
          <p:nvPr/>
        </p:nvGrpSpPr>
        <p:grpSpPr>
          <a:xfrm>
            <a:off x="8772480" y="1341360"/>
            <a:ext cx="3803760" cy="7212240"/>
            <a:chOff x="8772480" y="1341360"/>
            <a:chExt cx="3803760" cy="7212240"/>
          </a:xfrm>
        </p:grpSpPr>
        <p:pic>
          <p:nvPicPr>
            <p:cNvPr id="34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8772480" y="1341360"/>
              <a:ext cx="3803760" cy="72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8962920" y="1533600"/>
              <a:ext cx="3422880" cy="68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47" name="Text Box 3"/>
          <p:cNvSpPr/>
          <p:nvPr/>
        </p:nvSpPr>
        <p:spPr>
          <a:xfrm>
            <a:off x="9024840" y="1492200"/>
            <a:ext cx="32990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ценка на риска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Анализ на ефикасността на внедрените контроли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еглед на мрежовата сигурност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Анализ на сигурността на основните (web) приложения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оверка на базите данни и тяхната защита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48" name="Rounded Rectangle 9"/>
          <p:cNvGrpSpPr/>
          <p:nvPr/>
        </p:nvGrpSpPr>
        <p:grpSpPr>
          <a:xfrm>
            <a:off x="4614840" y="4743360"/>
            <a:ext cx="3803760" cy="4449960"/>
            <a:chOff x="4614840" y="4743360"/>
            <a:chExt cx="3803760" cy="4449960"/>
          </a:xfrm>
        </p:grpSpPr>
        <p:pic>
          <p:nvPicPr>
            <p:cNvPr id="3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614840" y="4743360"/>
              <a:ext cx="3803760" cy="44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4803840" y="4937040"/>
              <a:ext cx="3422520" cy="40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51" name="Text Box 3"/>
          <p:cNvSpPr/>
          <p:nvPr/>
        </p:nvSpPr>
        <p:spPr>
          <a:xfrm>
            <a:off x="4865760" y="4948200"/>
            <a:ext cx="32986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ценка на сигурността на сървърит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Анализ на сигурността на работните станции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еглед на физическата сигурност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52" name="Rounded Rectangle 11"/>
          <p:cNvGrpSpPr/>
          <p:nvPr/>
        </p:nvGrpSpPr>
        <p:grpSpPr>
          <a:xfrm>
            <a:off x="506520" y="6431040"/>
            <a:ext cx="3803400" cy="3170160"/>
            <a:chOff x="506520" y="6431040"/>
            <a:chExt cx="3803400" cy="3170160"/>
          </a:xfrm>
        </p:grpSpPr>
        <p:pic>
          <p:nvPicPr>
            <p:cNvPr id="35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506520" y="6431040"/>
              <a:ext cx="380340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66720" y="6589800"/>
              <a:ext cx="3484440" cy="28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55" name="Text Box 3"/>
          <p:cNvSpPr/>
          <p:nvPr/>
        </p:nvSpPr>
        <p:spPr>
          <a:xfrm>
            <a:off x="758880" y="6675480"/>
            <a:ext cx="32986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оверка на плана и средствата за непрекъснатост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Сканиране за уязвимости от интернет.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1. ИТ одит на инф. сигурност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2"/>
          <a:stretch/>
        </p:blipFill>
        <p:spPr>
          <a:xfrm>
            <a:off x="3189240" y="1450800"/>
            <a:ext cx="3652920" cy="36417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3"/>
          <p:cNvSpPr/>
          <p:nvPr/>
        </p:nvSpPr>
        <p:spPr>
          <a:xfrm>
            <a:off x="5854680" y="3895560"/>
            <a:ext cx="4392720" cy="936720"/>
          </a:xfrm>
          <a:prstGeom prst="rect">
            <a:avLst/>
          </a:prstGeom>
          <a:solidFill>
            <a:srgbClr val="509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езултати и ползи за организацията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60" name="Rounded Rectangle 9"/>
          <p:cNvGrpSpPr/>
          <p:nvPr/>
        </p:nvGrpSpPr>
        <p:grpSpPr>
          <a:xfrm>
            <a:off x="249120" y="5499000"/>
            <a:ext cx="3805200" cy="3821040"/>
            <a:chOff x="249120" y="5499000"/>
            <a:chExt cx="3805200" cy="3821040"/>
          </a:xfrm>
        </p:grpSpPr>
        <p:pic>
          <p:nvPicPr>
            <p:cNvPr id="36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249120" y="5499000"/>
              <a:ext cx="380520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38120" y="5692680"/>
              <a:ext cx="3422520" cy="34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63" name="Text Box 3"/>
          <p:cNvSpPr/>
          <p:nvPr/>
        </p:nvSpPr>
        <p:spPr>
          <a:xfrm>
            <a:off x="376200" y="5695920"/>
            <a:ext cx="35463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Доклад обхващащ всички констатации и включващ възможни мерки за подобрени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Диаграми и топологии: мрежова, сървърна, физическа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64" name="Rounded Rectangle 11"/>
          <p:cNvGrpSpPr/>
          <p:nvPr/>
        </p:nvGrpSpPr>
        <p:grpSpPr>
          <a:xfrm>
            <a:off x="4552920" y="5486400"/>
            <a:ext cx="3805200" cy="3822840"/>
            <a:chOff x="4552920" y="5486400"/>
            <a:chExt cx="3805200" cy="3822840"/>
          </a:xfrm>
        </p:grpSpPr>
        <p:pic>
          <p:nvPicPr>
            <p:cNvPr id="365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552920" y="5486400"/>
              <a:ext cx="38052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43360" y="5678640"/>
              <a:ext cx="3422880" cy="34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67" name="Text Box 3"/>
          <p:cNvSpPr/>
          <p:nvPr/>
        </p:nvSpPr>
        <p:spPr>
          <a:xfrm>
            <a:off x="4681440" y="5683320"/>
            <a:ext cx="354672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бективна оценка на постигнатото ниво на сигурност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добряване на сигурността базирайки се на откритите уязвимости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68" name="Rounded Rectangle 13"/>
          <p:cNvGrpSpPr/>
          <p:nvPr/>
        </p:nvGrpSpPr>
        <p:grpSpPr>
          <a:xfrm>
            <a:off x="8869320" y="5499000"/>
            <a:ext cx="3803760" cy="3821040"/>
            <a:chOff x="8869320" y="5499000"/>
            <a:chExt cx="3803760" cy="3821040"/>
          </a:xfrm>
        </p:grpSpPr>
        <p:pic>
          <p:nvPicPr>
            <p:cNvPr id="369" name="Rounded Rectangle 13" descr=""/>
            <p:cNvPicPr/>
            <p:nvPr/>
          </p:nvPicPr>
          <p:blipFill>
            <a:blip r:embed="rId5"/>
            <a:stretch/>
          </p:blipFill>
          <p:spPr>
            <a:xfrm>
              <a:off x="8869320" y="5499000"/>
              <a:ext cx="380376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9061560" y="5692680"/>
              <a:ext cx="3422520" cy="34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71" name="Text Box 3"/>
          <p:cNvSpPr/>
          <p:nvPr/>
        </p:nvSpPr>
        <p:spPr>
          <a:xfrm>
            <a:off x="8999640" y="5695920"/>
            <a:ext cx="354492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Изграждане на системен подходи за планиране и приоритизиране на нужните промени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вишаване на доверието към организацията.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GREEN-FON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2. Внедряване на СУИС -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ISO 27001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2"/>
          <a:stretch/>
        </p:blipFill>
        <p:spPr>
          <a:xfrm>
            <a:off x="8086680" y="1036800"/>
            <a:ext cx="4917960" cy="36892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7149960" y="4317840"/>
            <a:ext cx="4392720" cy="1117800"/>
          </a:xfrm>
          <a:prstGeom prst="rect">
            <a:avLst/>
          </a:prstGeom>
          <a:solidFill>
            <a:srgbClr val="509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едизвикателства и проблеми пред организациите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76" name="Rounded Rectangle 5"/>
          <p:cNvGrpSpPr/>
          <p:nvPr/>
        </p:nvGrpSpPr>
        <p:grpSpPr>
          <a:xfrm>
            <a:off x="328680" y="1706400"/>
            <a:ext cx="3805200" cy="6126480"/>
            <a:chOff x="328680" y="1706400"/>
            <a:chExt cx="3805200" cy="6126480"/>
          </a:xfrm>
        </p:grpSpPr>
        <p:pic>
          <p:nvPicPr>
            <p:cNvPr id="377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328680" y="1706400"/>
              <a:ext cx="3805200" cy="612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17680" y="1897200"/>
              <a:ext cx="3422520" cy="57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79" name="Text Box 3"/>
          <p:cNvSpPr/>
          <p:nvPr/>
        </p:nvSpPr>
        <p:spPr>
          <a:xfrm>
            <a:off x="579600" y="1936800"/>
            <a:ext cx="32986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остигане на съответствие с нормативните разпоредби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Изграждане на цялостен модел  за защита на данните и управление на инф. сигурност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Сертифициране по световно признат стандарт за инф. сигурност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80" name="Rounded Rectangle 8"/>
          <p:cNvGrpSpPr/>
          <p:nvPr/>
        </p:nvGrpSpPr>
        <p:grpSpPr>
          <a:xfrm>
            <a:off x="4449600" y="5778360"/>
            <a:ext cx="3810240" cy="3610080"/>
            <a:chOff x="4449600" y="5778360"/>
            <a:chExt cx="3810240" cy="3610080"/>
          </a:xfrm>
        </p:grpSpPr>
        <p:pic>
          <p:nvPicPr>
            <p:cNvPr id="381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9600" y="5778360"/>
              <a:ext cx="381024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633920" y="5959440"/>
              <a:ext cx="3441600" cy="32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83" name="Text Box 3"/>
          <p:cNvSpPr/>
          <p:nvPr/>
        </p:nvSpPr>
        <p:spPr>
          <a:xfrm>
            <a:off x="4705200" y="5989680"/>
            <a:ext cx="329904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авилно управление на ИТ рисковете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еакция при инциденти и осигуряване на непрекъснатост.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GREEN-FON.jpg"/>
          <p:cNvPicPr/>
          <p:nvPr/>
        </p:nvPicPr>
        <p:blipFill>
          <a:blip r:embed="rId1"/>
          <a:stretch/>
        </p:blipFill>
        <p:spPr>
          <a:xfrm>
            <a:off x="0" y="2232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578480" y="4103640"/>
            <a:ext cx="4356000" cy="19400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4"/>
          <p:cNvSpPr/>
          <p:nvPr/>
        </p:nvSpPr>
        <p:spPr>
          <a:xfrm>
            <a:off x="1222200" y="22320"/>
            <a:ext cx="11053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40680" tIns="72360" bIns="72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Calibri"/>
                <a:ea typeface="Calibri"/>
              </a:rPr>
              <a:t>2. Внедряване на СУИС -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ISO 27001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308480" y="6037200"/>
            <a:ext cx="4392720" cy="650880"/>
          </a:xfrm>
          <a:prstGeom prst="rect">
            <a:avLst/>
          </a:prstGeom>
          <a:solidFill>
            <a:srgbClr val="509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ешение и дейности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88" name="Rounded Rectangle 8"/>
          <p:cNvGrpSpPr/>
          <p:nvPr/>
        </p:nvGrpSpPr>
        <p:grpSpPr>
          <a:xfrm>
            <a:off x="414360" y="1852560"/>
            <a:ext cx="3809880" cy="7083360"/>
            <a:chOff x="414360" y="1852560"/>
            <a:chExt cx="3809880" cy="7083360"/>
          </a:xfrm>
        </p:grpSpPr>
        <p:pic>
          <p:nvPicPr>
            <p:cNvPr id="38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1852560"/>
              <a:ext cx="3809880" cy="708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08040" y="2043000"/>
              <a:ext cx="3422520" cy="67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91" name="Text Box 3"/>
          <p:cNvSpPr/>
          <p:nvPr/>
        </p:nvSpPr>
        <p:spPr>
          <a:xfrm>
            <a:off x="669960" y="2082960"/>
            <a:ext cx="32986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Провеждане на първоначален одит и анализ на текущото състояние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Изготвяне на План за изграждане и внедряване на СУСИ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пределяне на обхвата, политиката и целите по инф.  сигурност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Дефиниране на подхода за оценка на риска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92" name="Rounded Rectangle 10"/>
          <p:cNvGrpSpPr/>
          <p:nvPr/>
        </p:nvGrpSpPr>
        <p:grpSpPr>
          <a:xfrm>
            <a:off x="8790120" y="1852560"/>
            <a:ext cx="3803400" cy="7083360"/>
            <a:chOff x="8790120" y="1852560"/>
            <a:chExt cx="3803400" cy="7083360"/>
          </a:xfrm>
        </p:grpSpPr>
        <p:pic>
          <p:nvPicPr>
            <p:cNvPr id="393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8790120" y="1852560"/>
              <a:ext cx="3803400" cy="708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8978760" y="2043000"/>
              <a:ext cx="3422880" cy="67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95" name="Text Box 3"/>
          <p:cNvSpPr/>
          <p:nvPr/>
        </p:nvSpPr>
        <p:spPr>
          <a:xfrm>
            <a:off x="9040680" y="2082960"/>
            <a:ext cx="329904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пределяне нивата на риска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Определяне на механизми за сигурност</a:t>
            </a: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Разработване на документация на СУСИ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Внедряване на политиките и контролите за сигурност;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  <a:ea typeface="MS PGothic"/>
              </a:rPr>
              <a:t>Контрол на внедрената система.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6" name="Rounded Rectangle 12"/>
          <p:cNvSpPr/>
          <p:nvPr/>
        </p:nvSpPr>
        <p:spPr>
          <a:xfrm>
            <a:off x="4994280" y="1204920"/>
            <a:ext cx="3022560" cy="8174160"/>
          </a:xfrm>
          <a:custGeom>
            <a:avLst/>
            <a:gdLst>
              <a:gd name="textAreaLeft" fmla="*/ 147240 w 3022560"/>
              <a:gd name="textAreaRight" fmla="*/ 2875320 w 3022560"/>
              <a:gd name="textAreaTop" fmla="*/ 147240 h 8174160"/>
              <a:gd name="textAreaBottom" fmla="*/ 8026920 h 8174160"/>
            </a:gdLst>
            <a:ahLst/>
            <a:rect l="textAreaLeft" t="textAreaTop" r="textAreaRight" b="textAreaBottom"/>
            <a:pathLst>
              <a:path w="21600" h="58410">
                <a:moveTo>
                  <a:pt x="3600" y="0"/>
                </a:moveTo>
                <a:arcTo wR="3600" hR="3600" stAng="16200000" swAng="-5400000"/>
                <a:lnTo>
                  <a:pt x="0" y="54810"/>
                </a:lnTo>
                <a:arcTo wR="3600" hR="3600" stAng="10800000" swAng="-5400000"/>
                <a:lnTo>
                  <a:pt x="18000" y="584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5065560" y="1392120"/>
            <a:ext cx="295128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Анализ на политиките за сигурност;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Оценка на </a:t>
            </a: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организацията на сигурността и управлението на активи;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Преглед на човешките ресурси ;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Проверка на физическата сигурност;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Анализ на средствата за обмен на информация;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Оценка на контрола на достъп;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Преглед на разработването и използването на софтуер;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Анализ на управлението на инциденти;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Проверка на непрекъснатостта;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76092"/>
                </a:solidFill>
                <a:latin typeface="Times New Roman"/>
                <a:ea typeface="MS PGothic"/>
              </a:rPr>
              <a:t>Анализ на съответствието.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8" name="Right Arrow 1"/>
          <p:cNvSpPr/>
          <p:nvPr/>
        </p:nvSpPr>
        <p:spPr>
          <a:xfrm>
            <a:off x="3844800" y="2417760"/>
            <a:ext cx="1149480" cy="8604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099f7"/>
          </a:solidFill>
          <a:ln w="9360">
            <a:solidFill>
              <a:srgbClr val="003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lina Harizanova</dc:creator>
  <dc:description/>
  <dc:language>en-US</dc:language>
  <cp:lastModifiedBy>Svetlin Botev</cp:lastModifiedBy>
  <dcterms:modified xsi:type="dcterms:W3CDTF">2014-04-24T21:21:16Z</dcterms:modified>
  <cp:revision>137</cp:revision>
  <dc:subject/>
  <dc:title>Контракс Българския лидер в системната интеграция</dc:title>
</cp:coreProperties>
</file>